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6E90-2740-4DAE-BA2E-612D68A03D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7B0E-E4D2-4337-8415-B9456199B07E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70E2-34DD-426E-9606-A6011D8F6266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45BE-D651-45B9-813C-39938338083B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B4DB-EE2F-4D4E-A84F-4D95A1B8445C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F8DA-4734-4B4C-8A2A-8189E7C8062B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5336-92A0-4EF4-9FA3-AB70F00011F5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1560-A16B-4DCF-9F12-FE4A23F9FC63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D27A-AC47-41CB-9E02-40EB5E61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C9EA-E54C-451A-AEEA-C9453F5E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3718-CBF8-4A79-B156-BBE18EADF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4BA2-22B8-4A70-9D65-FDD64D1CA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5D28-2EE0-4750-8C9C-5CB2087E6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4B05-74A0-42C2-969B-ED46725B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9F64-D0CC-4115-B75C-E8899BC8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8D16-4006-4AC3-AFF8-5FF7D37C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ED55-D5E9-4B94-AAE5-513E0CDB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0758-3647-4D8C-A68C-CFD5D975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B9B23-13ED-46F0-B3DC-087834EF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1D35-E7F0-4972-B113-A51BFAF7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CBAF-2115-4FAF-959A-6BA6414E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E769-D195-4EE6-9106-E240C229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2F5F-5854-49CF-A09B-E14438EF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2AA2-4AB6-4073-B87D-1D0B48308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77B5-D0BE-476B-B579-52203AD6E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2183-DDC5-4F7E-B8BC-B88695F0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FD98-15EE-41C1-8A83-FF8AFE6F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F982-EAF9-4EDF-9620-74C99670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6BE2-32AE-4735-A442-3479AC28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3CAC-CBDE-4167-823E-C11AE971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49C4-0396-420B-A88D-257DE7CE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E137-61F5-4548-A81A-45CCEB75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82AE-F54F-4AB1-B090-4D9BF125FE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E8C6-90D9-4037-BE3D-E7E6403A05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AFBB-EA49-45C7-AFC8-F2426AC89A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5F37-184A-4C3E-8448-DD3A68F327C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hr.wikipedia.org/wiki/Slika:Flag_of_Bosnia_and_Herzegovina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Bk-map.p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4400" spc="-1" strike="noStrike">
                <a:solidFill>
                  <a:srgbClr val="000000"/>
                </a:solidFill>
                <a:latin typeface="Calibri"/>
              </a:rPr>
              <a:t>Bosnia and Herzegovin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1" name="Picture 4" descr="Zastava Bosne i Hercegovi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71760" y="2000160"/>
            <a:ext cx="5572080" cy="315936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9DC8-2771-4635-8D9E-4595CC9E82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72B9-B9B0-4DF7-A9BD-F17A6DE4853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 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Figures</a:t>
            </a:r>
            <a:br>
              <a:rPr sz="1100"/>
            </a:br>
            <a:br>
              <a:rPr sz="1100"/>
            </a:b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(in mio KM)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Source: Banking Agencies of FBiH and R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14240" y="1714680"/>
          <a:ext cx="7858440" cy="3857400"/>
        </p:xfrm>
        <a:graphic>
          <a:graphicData uri="http://schemas.openxmlformats.org/drawingml/2006/table">
            <a:tbl>
              <a:tblPr/>
              <a:tblGrid>
                <a:gridCol w="642960"/>
                <a:gridCol w="1857600"/>
                <a:gridCol w="1285920"/>
                <a:gridCol w="1285560"/>
                <a:gridCol w="1214640"/>
                <a:gridCol w="857160"/>
                <a:gridCol w="714600"/>
              </a:tblGrid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1.12.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0.6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0.9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2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3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s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.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8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.5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.2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oan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90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7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6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82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37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8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pos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5.1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4.90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5.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capit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16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75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26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expendit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6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985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t prof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8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4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7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F Stand-by Agre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nna initiative 6+3 (mother banks to keep exposure with B&amp;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umer protection legislation –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c high expectation from banking sect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able results of first stress 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PL increased, but still acceptable (2,8% Q2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e of income with increased interest 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ding – reduced and more expen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ooter Placeholder 5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74D2-A3CF-487E-A67D-DCD45688612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esent challang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5712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Founded in 2004, fully independ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First Association on stat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ly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self funded by member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All registered banks in full membe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Organized trough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Board of Dire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Executive Secret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9 Commissions for different fie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OUR MISSION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o improve and develope close cooperation among the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member bank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o establish partnership with state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institutions, supervisors and legislator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Public relations and media communication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Edu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cation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o  cooperate with similar institutions in the country and abro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ooter Placeholder 5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9AF3-AEC7-43E4-BBA6-97990C69AE7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Banking</a:t>
            </a: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 Association of Bosnia and Herzegovina</a:t>
            </a:r>
            <a:br>
              <a:rPr sz="25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ofile</a:t>
            </a:r>
            <a:br>
              <a:rPr sz="2500"/>
            </a:b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7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be fully dedicated to the spirit of EB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membership with EB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tional support and know-how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hange of information and expertise in legislation, good banking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ooter Placeholder 5"/>
          <p:cNvSpPr/>
          <p:nvPr/>
        </p:nvSpPr>
        <p:spPr>
          <a:xfrm>
            <a:off x="3124080" y="6356520"/>
            <a:ext cx="409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A29C-8250-4677-865D-3FBD49E7041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V Banking Association of Bosnia and Herzegovina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Our expectations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nks for your confid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ooter Placeholder 5"/>
          <p:cNvSpPr/>
          <p:nvPr/>
        </p:nvSpPr>
        <p:spPr>
          <a:xfrm>
            <a:off x="3124080" y="6356520"/>
            <a:ext cx="409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B470-1726-4E2C-9226-C4A227E7945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24_05_2006_clip_image002"/>
          <p:cNvPicPr/>
          <p:nvPr/>
        </p:nvPicPr>
        <p:blipFill>
          <a:blip r:embed="rId1"/>
          <a:stretch/>
        </p:blipFill>
        <p:spPr>
          <a:xfrm>
            <a:off x="2928960" y="4214880"/>
            <a:ext cx="297180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70c0"/>
                </a:solidFill>
                <a:latin typeface="Calibri"/>
              </a:rPr>
              <a:t>UBBiH   </a:t>
            </a:r>
            <a:r>
              <a:rPr b="1" lang="en-US" sz="11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UDRUŽENJE BANAKA BOSNE I HERCEGOVIN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UDRUGA BANAKA BOSNE I HERCEGOVIN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УДРУЖЕЊЕ БАНАКА БОСНE И ХЕРЦЕГОВИН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BANKS ASSOCIATION OF BOSNIA AND HERZEGOVINA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Branilaca Sarajeva 20/III, 71000 Sarajevo, Bosna i Hercegovina, Tel: (387 33) 714 630, Fax: (387 33) 714 631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www.ubbih.ba</a:t>
            </a:r>
            <a:br>
              <a:rPr sz="2400"/>
            </a:br>
            <a:br>
              <a:rPr sz="2400"/>
            </a:br>
            <a:br>
              <a:rPr sz="1600"/>
            </a:br>
            <a:br>
              <a:rPr sz="1600"/>
            </a:b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HE ECONOMY AND BANKING SECTOR  IN  BOSNIA AND HERZEGOVINA </a:t>
            </a:r>
            <a:br>
              <a:rPr sz="3200"/>
            </a:br>
            <a:br>
              <a:rPr sz="32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r. Dino Osmanbegović, Preside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240" y="5143320"/>
            <a:ext cx="691524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6" name="Rectangle 4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62CA-BF7A-439F-B7BC-9059605DE0A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43160" y="5929200"/>
            <a:ext cx="4071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8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7168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MMAR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.  B&amp;H in bri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eneral Fac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roeconomic Landscap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Key Macroeconomic Dat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jor Risk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 Financial Sector in B&amp;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ze and Structur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I Banking Indus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gur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esent Challeng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V Banking Association of Bosnia and Herzegov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ofi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Our expecta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969C-81D1-4907-9982-BF2A7443290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124080" y="6356520"/>
            <a:ext cx="4019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hr-HR" sz="1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 B&amp;H in brief</a:t>
            </a:r>
            <a:br>
              <a:rPr sz="29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General f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pulation: 3,8 mio (est.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pital: Saraje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a: 51.197 km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rrency (€1 = KM1.9558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 stat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n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entities+1 distri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 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4807-3541-49F9-961F-EDE4598B8B7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Map of Bosnia and Herzegovin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7720" y="928800"/>
            <a:ext cx="5473440" cy="4824360"/>
          </a:xfrm>
          <a:prstGeom prst="rect">
            <a:avLst/>
          </a:prstGeom>
          <a:ln w="0">
            <a:noFill/>
          </a:ln>
        </p:spPr>
      </p:pic>
      <p:sp>
        <p:nvSpPr>
          <p:cNvPr id="106" name="Footer Placeholder 5"/>
          <p:cNvSpPr/>
          <p:nvPr/>
        </p:nvSpPr>
        <p:spPr>
          <a:xfrm>
            <a:off x="3124080" y="6356520"/>
            <a:ext cx="416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00040" y="85716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 B&amp;H in bri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croeconomic landsca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ntral Bank of B&amp;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urrency Board Arran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andatory  Reser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nking Superv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2 banking agencies (still separate but coordinat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latively conservative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ministration for indirect taxation (VAT and custo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entralized collection with entity level distribu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corporate income, personal) on entity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3B62-985D-4A1A-906D-A82C92EC73F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bs-BA" sz="2800" spc="-1" strike="noStrike">
                <a:solidFill>
                  <a:srgbClr val="000000"/>
                </a:solidFill>
                <a:latin typeface="Calibri"/>
              </a:rPr>
              <a:t>I  B&amp;H in brief</a:t>
            </a:r>
            <a:br>
              <a:rPr sz="1400"/>
            </a:b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Key  Macroeconomic Data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bs-BA" sz="1200" spc="-1" strike="noStrike">
                <a:solidFill>
                  <a:srgbClr val="000000"/>
                </a:solidFill>
                <a:latin typeface="Calibri"/>
              </a:rPr>
              <a:t>Data Source: Thomson </a:t>
            </a:r>
            <a:r>
              <a:rPr b="0" lang="bs-BA" sz="1400" spc="-1" strike="noStrike">
                <a:solidFill>
                  <a:srgbClr val="000000"/>
                </a:solidFill>
                <a:latin typeface="Calibri"/>
              </a:rPr>
              <a:t>Reuter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71680" y="6000840"/>
            <a:ext cx="49068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00040" y="928800"/>
          <a:ext cx="8072640" cy="5475240"/>
        </p:xfrm>
        <a:graphic>
          <a:graphicData uri="http://schemas.openxmlformats.org/drawingml/2006/table">
            <a:tbl>
              <a:tblPr/>
              <a:tblGrid>
                <a:gridCol w="2639880"/>
                <a:gridCol w="981360"/>
                <a:gridCol w="981000"/>
                <a:gridCol w="1131840"/>
                <a:gridCol w="1149480"/>
                <a:gridCol w="1189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9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10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Nominal GDP (EUR b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al GDP (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usehold consumption (real, 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dustrial output (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onsumer prices (avg.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Unemployment rate  (avg,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General budget balance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urrent Account balance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ublic debt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Official FX reserves (EUR b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B7DE-ECF0-4040-92A3-722AB768091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5"/>
          <p:cNvSpPr/>
          <p:nvPr/>
        </p:nvSpPr>
        <p:spPr>
          <a:xfrm>
            <a:off x="2357280" y="6492960"/>
            <a:ext cx="4143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00040" y="85716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5601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&amp;H in br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jor Macroeconomic Ris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DP growth-present negative with forecasted very low 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dget deficit-still over IMF Stand-by Agrm. Targ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of Current Account Deficit-despite of significant reduction of both export and impor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dit portfolio volume-reduced for 2%, compared to 27% growth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itive 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FX risk and controlled inflation, due to the Currency Bo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B0D6-8C1F-4890-9386-9EC5CE24578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0040" y="857160"/>
            <a:ext cx="84297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800" spc="-1" strike="noStrike">
                <a:solidFill>
                  <a:srgbClr val="000000"/>
                </a:solidFill>
                <a:latin typeface="Calibri"/>
              </a:rPr>
              <a:t>II Financial Sector in B&amp;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Size and structure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100" spc="-1" strike="noStrike">
                <a:solidFill>
                  <a:srgbClr val="000000"/>
                </a:solidFill>
                <a:latin typeface="Calibri"/>
              </a:rPr>
              <a:t>Source: Central Bank B&amp;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450D-277A-4401-B91F-94298600F8F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85840" y="2000160"/>
          <a:ext cx="8358120" cy="3071880"/>
        </p:xfrm>
        <a:graphic>
          <a:graphicData uri="http://schemas.openxmlformats.org/drawingml/2006/table">
            <a:tbl>
              <a:tblPr/>
              <a:tblGrid>
                <a:gridCol w="2431800"/>
                <a:gridCol w="739800"/>
                <a:gridCol w="741600"/>
                <a:gridCol w="741240"/>
                <a:gridCol w="739800"/>
                <a:gridCol w="741240"/>
                <a:gridCol w="741600"/>
                <a:gridCol w="739800"/>
                <a:gridCol w="741240"/>
              </a:tblGrid>
              <a:tr h="285120">
                <a:tc rowSpan="2"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k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ada"/>
                    </a:solidFill>
                  </a:tcPr>
                </a:tc>
              </a:tr>
              <a:tr h="3193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estment fund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asing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urance and reinsurance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crocredit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Footer Placeholder 5"/>
          <p:cNvSpPr/>
          <p:nvPr/>
        </p:nvSpPr>
        <p:spPr>
          <a:xfrm>
            <a:off x="3000240" y="6286680"/>
            <a:ext cx="4019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80% of Financial Sec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1 Registered Ban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ederation BiH, 19 ba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ublic of Srpska 10 ba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 Banks under Administ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90% foreign own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ver 75% of total assets with 4 key play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 % of GDP penetr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levant share of retail loan portfoli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 capital adequacy ratio (CAR) – over 16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w profitability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C919-E347-46D7-9713-D159245A9EC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 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58:07Z</dcterms:created>
  <dc:creator>samir</dc:creator>
  <dc:description/>
  <dc:language>en-US</dc:language>
  <cp:lastModifiedBy>samir</cp:lastModifiedBy>
  <dcterms:modified xsi:type="dcterms:W3CDTF">2009-12-03T13:34:02Z</dcterms:modified>
  <cp:revision>32</cp:revision>
  <dc:subject/>
  <dc:title>Bosnia and Herzegovina </dc:title>
</cp:coreProperties>
</file>